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50E-CD0A-4846-8715-419D8E546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44B2-A737-4174-99A2-CF6DF702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ABA-1309-4E18-AA98-D14CE9A6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FDB-A435-417C-BD8E-A82F0FF7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F02B-DED5-4044-80B9-3A533EBA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D4A3-AE99-4792-9AF0-1F929A93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160-341F-4B9B-826D-FFC50396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101-507F-4403-8D47-1AFD5CBFA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7EF-92CF-45AA-8083-3DDC1E71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959-9058-4DA9-95C4-82FE56739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C9CE-3C53-40A7-B634-AA3282F9C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E15D-0079-4519-BACD-193BA9EA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F35A-0642-453F-8D79-5BA2D88C0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2B74-722F-44F2-AF40-7B76394A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196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848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196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848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196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8480" y="190476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196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8480" y="413352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0360" y="413352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0360" y="1904760"/>
            <a:ext cx="3718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33520"/>
            <a:ext cx="7620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2" marL="1085760" indent="-228600">
              <a:spcBef>
                <a:spcPts val="675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3" marL="1428840" indent="-228600">
              <a:spcBef>
                <a:spcPts val="675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4" marL="1771560" indent="-228600"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5" marL="1771560" indent="-228600"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6" marL="1771560" indent="-228600"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6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2002 Prentice Hall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fld id="{C4D3FAAA-6D70-4854-B5B9-34CCDA9372DA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7696080" cy="75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1143000"/>
            <a:ext cx="7315200" cy="190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2"/>
          </p:nvPr>
        </p:nvSpPr>
        <p:spPr>
          <a:xfrm>
            <a:off x="533520" y="63241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2002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304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124080"/>
            <a:ext cx="7315200" cy="76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icrosoft Sans Serif"/>
              </a:rPr>
              <a:t>Click to edit the outline text format</a:t>
            </a:r>
            <a:endParaRPr b="1" lang="en-US" sz="3200" spc="-1" strike="noStrike">
              <a:solidFill>
                <a:srgbClr val="0000cc"/>
              </a:solidFill>
              <a:latin typeface="Microsoft Sans Serif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mailto:ohnsmith@mindspring.co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304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360" y="3429000"/>
            <a:ext cx="666252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Microsoft Sans Serif"/>
              </a:rPr>
              <a:t>Inside the Internet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Microsoft Sans Serif"/>
              </a:rPr>
              <a:t>and the Web</a:t>
            </a:r>
            <a:endParaRPr b="1" lang="en-US" sz="4000" spc="-1" strike="noStrike">
              <a:solidFill>
                <a:srgbClr val="0000cc"/>
              </a:solidFill>
              <a:latin typeface="Microsoft Sans Serif"/>
            </a:endParaRPr>
          </a:p>
          <a:p>
            <a:pPr indent="0" algn="ctr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5602320" cy="7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rect (dedicated) Connec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11360"/>
            <a:ext cx="6934320" cy="27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uter has its own IP address and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s attached to a 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need to dial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les are stored on your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ponse time is qui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alup Connec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6280" indent="-28908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connection using a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8908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ccess dial up uses SLIP or PPP via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Broadband Connec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SL service is newer, faster, and cheaper than ISD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an share phone line with voice traffic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62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19112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Cable Modem Connection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Internet connections using shared TV 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xceed DSL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y increased privacy and securit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Satellite Connections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nections using DirecTV satellite di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ccess Op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723000" cy="28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99"/>
                </a:solidFill>
                <a:latin typeface="Times New Roman"/>
              </a:rPr>
              <a:t>Internet Service Providers (ISPs)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SPs provide connections throu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telephon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ISPs offer connections on a nationwid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Intranets -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lf-contained intra-organizational networks designed using the same technology as the Interne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Firewalls -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used to prevent unauthorized communication and secure sensitive internal data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4990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 typic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anets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include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61800"/>
            <a:ext cx="762012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xtranet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: designed for outside use by customers, clients, and business partner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lectronic Commerce: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business transactions through electronic network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ranets and Extran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Electronic data interchange (EDI):</a:t>
            </a:r>
            <a:r>
              <a:rPr b="0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 decade-old set of specifications for ordering, billing, and paying for parts and services over private networks.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Times New Roman"/>
              </a:rPr>
              <a:t>Virtual private networks:</a:t>
            </a:r>
            <a:r>
              <a:rPr b="0" lang="en-US" sz="27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not subject to the traffic and security problem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user interface varies depending on which client/server application is being used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US" sz="27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- developed by Bell Labs, allows a timesharing computer to communicate with several other computers or terminals at once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ternet Applications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ommunication and Connection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43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57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-mail addresses are made up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f two parts separated by an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t(@) sign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name@hos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j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ohnsmith@mindspr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e host is named using DNS (domain name system), which translates IP addresses into a string of names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5025960"/>
            <a:ext cx="6553080" cy="10674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Each person on the “Internet” has a unique e-mail “address” created by having a squirrel run across a computer keyboard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Dave Bar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1955880"/>
            <a:ext cx="49528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Internet: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Network of Network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 Applications: Communication and Connect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side the World Wide Web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he Evolving Interne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p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828800"/>
            <a:ext cx="2514600" cy="3581280"/>
          </a:xfrm>
          <a:prstGeom prst="wedgeEllipseCallout">
            <a:avLst>
              <a:gd name="adj1" fmla="val -53597"/>
              <a:gd name="adj2" fmla="val 82759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It’s a bit like climbing a mountain. You don’t know how far you’ve come until you stop and look back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Second-Grader"/>
              </a:rPr>
              <a:t>Vint Cer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n Internet address includes: username@hostname.sub.dom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819520"/>
            <a:ext cx="64771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erson’s “mailbox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ame of the host computer and is followed by one or more domains separated by period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subdomain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st.subdomain.subdomain.doma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level domains include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909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 - educational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- commercial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- government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- military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 administration 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- nonprofit organ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3066840"/>
            <a:ext cx="4190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Times New Roman"/>
              </a:rPr>
              <a:t>president@whitehouse.gov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0120" y="197496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532480"/>
            <a:ext cx="5333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azel_filbert@lane.k12.or.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190600"/>
            <a:ext cx="3657600" cy="1638360"/>
          </a:xfrm>
          <a:prstGeom prst="borderCallout2">
            <a:avLst>
              <a:gd name="adj1" fmla="val 18750"/>
              <a:gd name="adj2" fmla="val -8333"/>
              <a:gd name="adj3" fmla="val 6976"/>
              <a:gd name="adj4" fmla="val -25564"/>
              <a:gd name="adj5" fmla="val 51356"/>
              <a:gd name="adj6" fmla="val -50175"/>
            </a:avLst>
          </a:prstGeom>
          <a:noFill/>
          <a:ln w="38160">
            <a:solidFill>
              <a:srgbClr val="459b8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esiden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whose mail is stored on the host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itehous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overnment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4554360"/>
            <a:ext cx="3657600" cy="1638360"/>
          </a:xfrm>
          <a:prstGeom prst="borderCallout2">
            <a:avLst>
              <a:gd name="adj1" fmla="val 18750"/>
              <a:gd name="adj2" fmla="val -8333"/>
              <a:gd name="adj3" fmla="val 6976"/>
              <a:gd name="adj4" fmla="val -25824"/>
              <a:gd name="adj5" fmla="val 56879"/>
              <a:gd name="adj6" fmla="val -50736"/>
            </a:avLst>
          </a:prstGeom>
          <a:noFill/>
          <a:ln w="38160">
            <a:solidFill>
              <a:srgbClr val="d2590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zel_filber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t the server for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ne County, Oregon, k-12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hool distri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at appears on the screen depends on the type of Internet connection an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l program you use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47" name="P249-Eudora" descr=""/>
          <p:cNvPicPr/>
          <p:nvPr/>
        </p:nvPicPr>
        <p:blipFill>
          <a:blip r:embed="rId2"/>
          <a:srcRect l="11309" t="0" r="9219" b="0"/>
          <a:stretch/>
        </p:blipFill>
        <p:spPr>
          <a:xfrm>
            <a:off x="4724280" y="1981080"/>
            <a:ext cx="3886200" cy="3668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724280" y="1981080"/>
            <a:ext cx="3886200" cy="36576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86200"/>
            <a:ext cx="4647960" cy="2286000"/>
          </a:xfrm>
          <a:prstGeom prst="rightArrowCallout">
            <a:avLst>
              <a:gd name="adj1" fmla="val 9918"/>
              <a:gd name="adj2" fmla="val 25000"/>
              <a:gd name="adj3" fmla="val 33887"/>
              <a:gd name="adj4" fmla="val 74616"/>
            </a:avLst>
          </a:prstGeom>
          <a:solidFill>
            <a:srgbClr val="0033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udora is an easy to use Email software. Outlook and Netscape Communicator are  popular e-mail softwar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32168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Why are fre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ccounts made  available?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offered to attract Web site 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sers of public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le for those wanting multiple e-mail addresses not associated with a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-mail on the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960" y="1905120"/>
            <a:ext cx="724716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-mail Formats include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52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so they can be viewed with any clien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M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used to send and receive text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iched 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plays text formatting, graphics, and links to Web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iling Lists a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etwork New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llow you to participate in email discussion groups on special-interest topic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twork New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re public discussions that you can go in and out as you please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are posted on virtual bulletin boards (for everyone to re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-Time Communic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net relay chat (IRC)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llows several users to </a:t>
            </a:r>
            <a:r>
              <a:rPr b="0" i="1" lang="en-US" sz="2700" spc="-1" strike="noStrike">
                <a:solidFill>
                  <a:srgbClr val="000099"/>
                </a:solidFill>
                <a:latin typeface="Times New Roman"/>
              </a:rPr>
              <a:t>chat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simultaneously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urns the Internet into a toll-free long-distance telephone servic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ideo teleconference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llow multi-person videoconferences via the Web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-Time Communic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253-CU-SeeMe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6248160" cy="4376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388960" y="3078720"/>
            <a:ext cx="1665000" cy="6717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181480"/>
            <a:ext cx="2362320" cy="12956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He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354000">
            <a:off x="6172200" y="5105160"/>
            <a:ext cx="2362320" cy="129528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net and FT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74600"/>
            <a:ext cx="73915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Information gathering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Telnet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- makes remote login possibl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FTP (file transfer protocol)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- allows  files to be uploaded and downloaded from remote computer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295280" y="3352680"/>
          <a:ext cx="57913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7913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Internet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is an interconnected network of thousands of networks linking academic, research, government, and commercial institution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Internet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Network of Network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net and FT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68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b browser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locate and transfer files without typing command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When you click a Web link t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wnload</a:t>
            </a: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 a file, you’re probably using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rcRect l="0" t="7333" r="53002" b="15334"/>
          <a:stretch/>
        </p:blipFill>
        <p:spPr>
          <a:xfrm>
            <a:off x="5181480" y="1981080"/>
            <a:ext cx="277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21680" cy="39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SzPct val="1068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is a distributed browsing and searching system developed at CER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ystem was designed to give Internet documents unique address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language was created for encoding and displaying document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SzPct val="1068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Browser software was built for viewing documents from remote loc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5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side the World Wid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471400"/>
            <a:ext cx="7621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57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made up of text and imag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eb sit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a collection of web pag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 pag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the main entry to a Web si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57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like Netscape Communicator or Internet Explorer allows you to explore the Web by clicking lin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82880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b site Jarg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3733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6600cc"/>
                </a:solidFill>
                <a:latin typeface="Times New Roman"/>
              </a:rPr>
              <a:t>Hyperlinks (links)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re words or pictures that act as buttons, allowing you to go to another Web pag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258-Vote1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886200" cy="2909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5334120"/>
            <a:ext cx="47242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1055"/>
              <a:gd name="adj5" fmla="val -149166"/>
              <a:gd name="adj6" fmla="val 120532"/>
            </a:avLst>
          </a:prstGeom>
          <a:solidFill>
            <a:srgbClr val="cccc99"/>
          </a:solidFill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ks are typically underlined or displayed in a different co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on Browsing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905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ore Web site Jarg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llow you to locate information without knowing its exact location (it may move from time to time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buttons let you retrace your step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mark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ites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can be set up to mark your favorite Web location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981080"/>
            <a:ext cx="2514600" cy="1295640"/>
          </a:xfrm>
          <a:prstGeom prst="wedgeEllipseCallout">
            <a:avLst>
              <a:gd name="adj1" fmla="val -67930"/>
              <a:gd name="adj2" fmla="val 69731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ronounced </a:t>
            </a: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Ear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…like the 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505320"/>
            <a:ext cx="7467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 typical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URL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 looks like thi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Times New Roman"/>
              </a:rPr>
              <a:t>http://www.prenhall.com.beekma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2193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 Address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743200" cy="533160"/>
          </a:xfrm>
          <a:prstGeom prst="rect">
            <a:avLst/>
          </a:prstGeom>
          <a:noFill/>
          <a:ln w="324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Protocol for Web pag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ssecting Web Page address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" y="3886200"/>
            <a:ext cx="1676520" cy="1218960"/>
            <a:chOff x="685800" y="3886200"/>
            <a:chExt cx="1676520" cy="1218960"/>
          </a:xfrm>
        </p:grpSpPr>
        <p:sp>
          <p:nvSpPr>
            <p:cNvPr id="186" name=""/>
            <p:cNvSpPr/>
            <p:nvPr/>
          </p:nvSpPr>
          <p:spPr>
            <a:xfrm>
              <a:off x="914400" y="39304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cc00"/>
                  </a:solidFill>
                  <a:latin typeface="Times New Roman"/>
                </a:rPr>
                <a:t>http://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3886200"/>
              <a:ext cx="1447920" cy="685800"/>
            </a:xfrm>
            <a:prstGeom prst="ellipse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19320" y="4343040"/>
              <a:ext cx="457200" cy="7621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981080" y="2819520"/>
            <a:ext cx="3505320" cy="1904760"/>
            <a:chOff x="1981080" y="2819520"/>
            <a:chExt cx="3505320" cy="1904760"/>
          </a:xfrm>
        </p:grpSpPr>
        <p:sp>
          <p:nvSpPr>
            <p:cNvPr id="190" name=""/>
            <p:cNvSpPr/>
            <p:nvPr/>
          </p:nvSpPr>
          <p:spPr>
            <a:xfrm>
              <a:off x="2133720" y="3976560"/>
              <a:ext cx="3352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Times New Roman"/>
                </a:rPr>
                <a:t>www.vote-smart.org/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81080" y="2819520"/>
              <a:ext cx="3276720" cy="1904760"/>
              <a:chOff x="1981080" y="2819520"/>
              <a:chExt cx="3276720" cy="1904760"/>
            </a:xfrm>
          </p:grpSpPr>
          <p:sp>
            <p:nvSpPr>
              <p:cNvPr id="192" name=""/>
              <p:cNvSpPr/>
              <p:nvPr/>
            </p:nvSpPr>
            <p:spPr>
              <a:xfrm>
                <a:off x="2743200" y="2819520"/>
                <a:ext cx="1905120" cy="45720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Path to the hos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81080" y="3809880"/>
                <a:ext cx="3276720" cy="914400"/>
              </a:xfrm>
              <a:prstGeom prst="ellipse">
                <a:avLst/>
              </a:pr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3733560" y="3276720"/>
                <a:ext cx="152280" cy="838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6400800" y="5105520"/>
            <a:ext cx="1905120" cy="457200"/>
          </a:xfrm>
          <a:prstGeom prst="rect">
            <a:avLst/>
          </a:prstGeom>
          <a:noFill/>
          <a:ln w="3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esource 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809880"/>
            <a:ext cx="3276360" cy="1295280"/>
            <a:chOff x="5105520" y="3809880"/>
            <a:chExt cx="3276360" cy="1295280"/>
          </a:xfrm>
        </p:grpSpPr>
        <p:sp>
          <p:nvSpPr>
            <p:cNvPr id="197" name=""/>
            <p:cNvSpPr/>
            <p:nvPr/>
          </p:nvSpPr>
          <p:spPr>
            <a:xfrm>
              <a:off x="5486400" y="3962520"/>
              <a:ext cx="289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Times New Roman"/>
                </a:rPr>
                <a:t>help/database.html</a:t>
              </a:r>
              <a:endParaRPr b="0" lang="en-US" sz="2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809880"/>
              <a:ext cx="3200400" cy="83844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238880" y="4419360"/>
              <a:ext cx="609840" cy="685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ing the Web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Search engin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 list of pages that match a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built around a database that catalog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locations based o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rectory or Subject Tre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ical catalog of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Natural Language Search Engin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ers to ask for what they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276720"/>
            <a:ext cx="2590920" cy="2819160"/>
          </a:xfrm>
          <a:prstGeom prst="cloudCallout">
            <a:avLst>
              <a:gd name="adj1" fmla="val -51652"/>
              <a:gd name="adj2" fmla="val 4971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The ability to ask the right question is more than half the battle of finding the answer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Second-Grader"/>
              </a:rPr>
              <a:t>Thomas J. Wats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261-AltaVista" descr=""/>
          <p:cNvPicPr/>
          <p:nvPr/>
        </p:nvPicPr>
        <p:blipFill>
          <a:blip r:embed="rId2"/>
          <a:srcRect l="19066" t="50016" r="21521" b="13721"/>
          <a:stretch/>
        </p:blipFill>
        <p:spPr>
          <a:xfrm>
            <a:off x="2819520" y="3124080"/>
            <a:ext cx="4952880" cy="2608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6680" y="4038480"/>
            <a:ext cx="1817640" cy="2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809880"/>
            <a:ext cx="300672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7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help find information when you  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type a query using keywords.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191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irectory/subject tree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engines offer a menu of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 subject choic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43000" y="2057400"/>
            <a:ext cx="7086240" cy="3886200"/>
            <a:chOff x="1143000" y="2057400"/>
            <a:chExt cx="7086240" cy="3886200"/>
          </a:xfrm>
        </p:grpSpPr>
        <p:sp>
          <p:nvSpPr>
            <p:cNvPr id="211" name=""/>
            <p:cNvSpPr/>
            <p:nvPr/>
          </p:nvSpPr>
          <p:spPr>
            <a:xfrm>
              <a:off x="1143000" y="4800600"/>
              <a:ext cx="3855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212" name="P260-Yahoo3" descr=""/>
            <p:cNvPicPr/>
            <p:nvPr/>
          </p:nvPicPr>
          <p:blipFill>
            <a:blip r:embed="rId3"/>
            <a:srcRect l="1749" t="3075" r="3928" b="4615"/>
            <a:stretch/>
          </p:blipFill>
          <p:spPr>
            <a:xfrm>
              <a:off x="5067720" y="2057400"/>
              <a:ext cx="3161520" cy="3886200"/>
            </a:xfrm>
            <a:prstGeom prst="rect">
              <a:avLst/>
            </a:prstGeom>
            <a:ln w="12600">
              <a:solidFill>
                <a:srgbClr val="ff0000"/>
              </a:solidFill>
              <a:miter/>
            </a:ln>
          </p:spPr>
        </p:pic>
        <p:sp>
          <p:nvSpPr>
            <p:cNvPr id="213" name=""/>
            <p:cNvSpPr/>
            <p:nvPr/>
          </p:nvSpPr>
          <p:spPr>
            <a:xfrm>
              <a:off x="4987440" y="3733920"/>
              <a:ext cx="2372400" cy="2160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5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Internet provides scientists, engineers, educators, students, business people, and others with a variety of services such as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lectronic 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nd/receive mail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mote login</a:t>
            </a:r>
            <a:r>
              <a:rPr b="0" lang="en-US" sz="2400" spc="-1" strike="noStrike">
                <a:solidFill>
                  <a:srgbClr val="d2590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net - access to other compu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1998" t="22000" r="21002" b="11334"/>
          <a:stretch/>
        </p:blipFill>
        <p:spPr>
          <a:xfrm>
            <a:off x="3733920" y="2844720"/>
            <a:ext cx="4419360" cy="2946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arch Engin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sk questions in a Natural Language Search Engin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809880"/>
            <a:ext cx="266724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038480"/>
            <a:ext cx="4495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ortal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offer quick and easy access to a variety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of  services such as e-mail, chat,maps, news,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   shopping, etc. 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xamples of consumer portals include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</a:rPr>
              <a:t>Yahoo!, Excite, Lycos, Alta Vista, Netscape Netcenter, Sn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</a:rPr>
              <a:t>Specialized portals target specific industries and economic se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352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Hypertext to Multimed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895480"/>
            <a:ext cx="3429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Table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Frame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Forms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Downloadable </a:t>
            </a:r>
            <a:br>
              <a:rPr sz="2300"/>
            </a:b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udio and video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14440" y="2895120"/>
            <a:ext cx="4257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Streaming audio and vid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Real-time live </a:t>
            </a:r>
            <a:br>
              <a:rPr sz="2300"/>
            </a:b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audio or vid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3-D environ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011320"/>
            <a:ext cx="6488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ypical Web pages can contain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Hypertext to Multimed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3962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lug-Ins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are software extensions that add new features. Examples include…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62120" y="2870280"/>
            <a:ext cx="410832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QuickTime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Shockwave/Flash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RealPlayer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SzPct val="1208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crobat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bcasting: Push Technolog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lient computer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ll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information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 initiate a request fo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 technology delivers information automatically to the client computer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the minute weather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head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208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A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</a:rPr>
              <a:t> document includes codes that determines the format, layout, and structure of a Web document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4" name="viewsource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135240" cy="3481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198108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TML (Hypertext Markup Language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181480"/>
            <a:ext cx="281952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4888"/>
              <a:gd name="adj5" fmla="val -75189"/>
              <a:gd name="adj6" fmla="val 147916"/>
            </a:avLst>
          </a:prstGeom>
          <a:noFill/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YSIWY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93356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62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This text coded a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en-US" sz="2700" spc="-1" strike="noStrike">
                <a:solidFill>
                  <a:srgbClr val="000099"/>
                </a:solidFill>
                <a:latin typeface="Times New Roman"/>
              </a:rPr>
              <a:t> …</a:t>
            </a:r>
            <a:br>
              <a:rPr sz="2700"/>
            </a:b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74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marL="74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39" name="htmlsample" descr=""/>
          <p:cNvPicPr/>
          <p:nvPr/>
        </p:nvPicPr>
        <p:blipFill>
          <a:blip r:embed="rId2"/>
          <a:stretch/>
        </p:blipFill>
        <p:spPr>
          <a:xfrm>
            <a:off x="3797280" y="3505320"/>
            <a:ext cx="4508640" cy="2666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4495680"/>
            <a:ext cx="3047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ppears like this on the screen …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51814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438280"/>
            <a:ext cx="7391520" cy="68940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1&gt;Welcome to Computer Confluence&lt;/H1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&gt;Publishing on the Web&lt;/b&gt;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ublishing on the Web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58104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lternatives to HTML…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grams that convert document format features into HTML cod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182880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d, FileMa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b authoring programs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182880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Page,  GoLive,  Front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746280" indent="-581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ynamic HTML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dds more programming power to HTML by allowing code to automatically modify itself under certain circumstanc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Script:</a:t>
            </a: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simple language for enhancing HTML Web pag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0512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reless Markup Language helps create Web documents containing stock quotes, phone numbers, and other small nuggets of inform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l replace HTML plus provide additional features and extension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M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irtual Reality Modeling Language creates 3-D virtual world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Servic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ferring file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FTP - accessing archives of da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Usenet - on-line public discuss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 (a collection of multimedia docume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RTN_057" descr=""/>
          <p:cNvPicPr/>
          <p:nvPr/>
        </p:nvPicPr>
        <p:blipFill>
          <a:blip r:embed="rId2"/>
          <a:stretch/>
        </p:blipFill>
        <p:spPr>
          <a:xfrm>
            <a:off x="5086440" y="2209680"/>
            <a:ext cx="30668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yond HTM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full-featured, cross platform, object-oriented programming langu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pplet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mall Java programs that can be automatically downloaded onto your client computer and can run on any platform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1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provides faster network communications for universities and research institu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virtual laboratories, digital libraries, and distance learning applications are being built on Internet 2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ernet2 and the Next Generation Interne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volving Interne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2616120"/>
            <a:ext cx="7246800" cy="34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Filtering software can prevent unwanted and inappropriate content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Encryption prevents credit card and e-mail forgery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gital cash makes on-line transactions safer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Universal access is a problem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9810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thical and Political Dilemma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5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Issu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440" y="2695320"/>
            <a:ext cx="7620120" cy="34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A blurring of Web and interpersonal communication application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Internet appliances connected to the Web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Continued computer crime and security issues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20574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Next? Electronic Frontier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Everywhere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Invisible Inform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unting Conn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oday, the Internet connects computers to about every country in the world.   However, the Internet is: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too fast to measure it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decentralized to qua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twork with no hard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The language at the heart of the Internet i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CP/IP…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lvl="1" marL="752400" indent="-285840"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mission Control Protocol/Internet Protoco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5840"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ows cross-network commun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CP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breaks messages into pack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cket has all the information needed to travel from network to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system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 how to route 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1218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P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is the address for the pack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nternet host computer has a uniq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ddress is comprised of four sets of numbers separated by periods, such a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.23.168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6:30:57Z</dcterms:created>
  <dc:creator>Leah R. Pietron</dc:creator>
  <dc:description/>
  <dc:language>en-US</dc:language>
  <cp:lastModifiedBy>IBM_User</cp:lastModifiedBy>
  <dcterms:modified xsi:type="dcterms:W3CDTF">2002-04-30T21:31:48Z</dcterms:modified>
  <cp:revision>151</cp:revision>
  <dc:subject/>
  <dc:title>Computer Confluence</dc:title>
</cp:coreProperties>
</file>